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4E17-C4C3-4CE0-896F-E86E2B2E94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D903-ECA3-4A56-BB5E-D7A7C3B8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3357-87A6-4D16-BB2B-E3EFB49D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7944-C550-4BD1-9879-E37F5394B7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21A0-0094-459B-AFBB-E496470B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6E87-E736-47FF-B31F-B785B684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B38CF-9BF3-4AA9-BCE6-710318E8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65BA-B64B-431C-BB33-B19F2B33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ADC3-DAB1-4490-8FB4-C1B9B199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9D79-1DB3-46E6-A341-B131EA33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EF05-2630-4917-9D74-2B0EC74C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A0E9-4A04-4E76-B51C-F00E7091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DB7A-7232-4408-94FF-C1E81F8655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常见神经系统疾病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康复护理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2680" y="549000"/>
            <a:ext cx="600084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0151-8BF1-4984-BC7B-87CD69482F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觉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摄食和吞咽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认知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能力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427640" y="549360"/>
            <a:ext cx="3960720" cy="1584360"/>
          </a:xfrm>
          <a:prstGeom prst="wedgeRectCallout">
            <a:avLst>
              <a:gd name="adj1" fmla="val -65472"/>
              <a:gd name="adj2" fmla="val 40180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偏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根据肌张力状态分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驰缓期、痉挛期、恢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4427640" y="1628640"/>
            <a:ext cx="3960720" cy="936720"/>
          </a:xfrm>
          <a:prstGeom prst="wedgeRectCallout">
            <a:avLst>
              <a:gd name="adj1" fmla="val -77537"/>
              <a:gd name="adj2" fmla="val 58305"/>
            </a:avLst>
          </a:prstGeom>
          <a:solidFill>
            <a:srgbClr val="f7ffa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痛觉、温度觉、运动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位置觉、实体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4427640" y="2276640"/>
            <a:ext cx="4465440" cy="1296720"/>
          </a:xfrm>
          <a:prstGeom prst="wedgeRectCallout">
            <a:avLst>
              <a:gd name="adj1" fmla="val -59347"/>
              <a:gd name="adj2" fmla="val 32986"/>
            </a:avLst>
          </a:prstGeom>
          <a:solidFill>
            <a:srgbClr val="baeef4"/>
          </a:solidFill>
          <a:ln w="9360">
            <a:solidFill>
              <a:srgbClr val="ba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失语症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听说读写能力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构音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发音不准、吐字不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　　　　　　语调及速率节奏异常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932360" y="3213000"/>
            <a:ext cx="3887640" cy="1081080"/>
          </a:xfrm>
          <a:prstGeom prst="wedgeRectCallout">
            <a:avLst>
              <a:gd name="adj1" fmla="val -66250"/>
              <a:gd name="adj2" fmla="val 22541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口腔周围肌群协调能力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摄食和吞咽运动控制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4932360" y="3933720"/>
            <a:ext cx="3887640" cy="1008000"/>
          </a:xfrm>
          <a:prstGeom prst="wedgeRectCallout">
            <a:avLst>
              <a:gd name="adj1" fmla="val -89444"/>
              <a:gd name="adj2" fmla="val 21652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意识、注意力、记忆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智力障碍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失认证、失用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5148360" y="4581360"/>
            <a:ext cx="3671640" cy="1440000"/>
          </a:xfrm>
          <a:prstGeom prst="wedgeRectCallout">
            <a:avLst>
              <a:gd name="adj1" fmla="val -62407"/>
              <a:gd name="adj2" fmla="val 6671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更衣、进食、卫生、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上下楼梯等基本动作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技巧能力下降或丧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5148360" y="5877000"/>
            <a:ext cx="3671640" cy="718920"/>
          </a:xfrm>
          <a:prstGeom prst="wedgeRectCallout">
            <a:avLst>
              <a:gd name="adj1" fmla="val -103953"/>
              <a:gd name="adj2" fmla="val -47569"/>
            </a:avLst>
          </a:prstGeom>
          <a:solidFill>
            <a:srgbClr val="efe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抑郁、焦躁、恐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"/>
          <p:cNvSpPr/>
          <p:nvPr/>
        </p:nvSpPr>
        <p:spPr>
          <a:xfrm>
            <a:off x="755640" y="11635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6-1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患者杨某，男性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9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岁，主因左侧肢体活动不利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入院。既往有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高血压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冠心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。患者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晨起发现左侧肢体无力，急到本区医院就诊，行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，未见异常。经药物治疗病情仍进一步加重，复查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：右侧基底节区脑梗塞。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左侧肢体完全瘫痪。查体：血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60/90mmHg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，心肺查体大致正常。神智清楚，言语流利，智力正常，饮水偶有轻度呛咳，左鼻唇沟浅，肌张力低，腱反射稍弱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binski sign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）。不能保持坐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云形 3"/>
          <p:cNvSpPr/>
          <p:nvPr/>
        </p:nvSpPr>
        <p:spPr>
          <a:xfrm>
            <a:off x="1403280" y="1968480"/>
            <a:ext cx="6840720" cy="30132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92aa2"/>
                </a:solidFill>
                <a:latin typeface="楷体"/>
                <a:ea typeface="楷体"/>
              </a:rPr>
              <a:t>问题与思考：患者存在哪些障碍（包括功能和能力障碍）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755640" y="162864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案例 </a:t>
            </a:r>
            <a:r>
              <a:rPr b="1" lang="en-US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6-1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应用降纤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U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奥扎格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丁咯地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胞二磷酸钠等综合治疗，同时应用硝苯地平缓释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服，血压控制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/90mmH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治疗，病情稳定，现患者仍有轻度饮水呛咳，左侧肢体不能活动，肌张力高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abinski sign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日常生活需要帮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与思考：该患者能否进行康复训练？应怎样进行功能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26920" y="1557360"/>
            <a:ext cx="7491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5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运动功能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5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   运动功能评估主要是对运动模式、肌张力、肌肉协调能力进行评估，运动模式改变评估多采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阶段评估法，肌力状况评估多采用徒手肌力和器械肌力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-79200"/>
          <a:ext cx="9144000" cy="6949800"/>
        </p:xfrm>
        <a:graphic>
          <a:graphicData uri="http://schemas.openxmlformats.org/drawingml/2006/table">
            <a:tbl>
              <a:tblPr/>
              <a:tblGrid>
                <a:gridCol w="692280"/>
                <a:gridCol w="2690640"/>
                <a:gridCol w="3113280"/>
                <a:gridCol w="2647800"/>
              </a:tblGrid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阶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上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下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细微的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出现协同运动模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少的随意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有勾状抓握，但不能伸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随意发起协同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坐和站立位上，有髋、膝、踝的协同性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能侧捏及松开拇指，手指有半随意的小范围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脱离协同运动的活动：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，肘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的条件下，前臂可旋前、旋后；肘伸直的情况下，肩可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手臂可触及腰骶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座位上，可屈膝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以上，足可向后滑动。在足跟不离地的情况下踝能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作球状和圆柱状抓握，手指同时伸展，但不能单独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相对独立于协同运动的活动；肩伸直时肩可外展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肘伸直，肩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30°-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时，前臂可旋前、旋后；肘伸直，前臂中立位，上肢可举过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健腿站，病腿可先屈膝，后伸髋；伸膝下，踝可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所有抓握均能完成，但速度和准确性比健侧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运动协调近于正常，手指指鼻无明显辨距不良，但速度比健侧慢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≤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秒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站立位可使髋外展到抬起该侧骨盆所能达到的范围；坐位下伸直膝可内外旋下肢，合并足内外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491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5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感觉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痛觉、温度觉、触觉、运动觉、位置觉、实体觉和图形觉是否减退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后主要为构音障碍与失语症。言语功能评估主要是通过交流、观察、使用通用的量表以及仪器检查等方法进行判断其性质、类型及程度，确定是否需要进行言语治疗以及采取何种治疗及护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491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摄食和吞咽功能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是否存在吞咽困难，有无伴随症状，如梗阻感、咽喉痛、鼻腔反流、胃食管反流、误咽等症状，并对其程度进行量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"/>
          <p:cNvSpPr/>
          <p:nvPr/>
        </p:nvSpPr>
        <p:spPr>
          <a:xfrm>
            <a:off x="826920" y="1484280"/>
            <a:ext cx="756144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认知与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评估方法有简易精神状态量表、神经行为认知状态测试、蒙特利尔认知评估量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心理状态，人际关系与环境适应能力，了解心理困扰问题，有无抑郁、焦虑、恐惧等心理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900000" y="1989000"/>
            <a:ext cx="741708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日常生活活动功能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脑卒中患者存在运动功能、言语功能、感觉功能、认知功能等多种功能障碍，常导致日常生活活动基本动作和技巧能力的下降或丧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脑卒中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"/>
          <p:cNvSpPr/>
          <p:nvPr/>
        </p:nvSpPr>
        <p:spPr>
          <a:xfrm>
            <a:off x="1258920" y="220500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-1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评价左侧上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左侧下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肌张力高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rthel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指数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，饮水试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问题与思考：该患者康复护理介入的时机是什么？应采取哪些康复护理措施进行预防和训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04800" y="1092240"/>
            <a:ext cx="832176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431C-7EC3-4718-AD7A-B2E2FD20D06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期康复、循序渐进、持之以衡、预防复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出现因活动受限引起的并发症或并发症能及时发现和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地恢复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9315-CAE7-403C-8DFD-F169387C47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28440" y="2071800"/>
            <a:ext cx="79642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软瘫期康复护理（发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临床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意识清楚或轻度意识障碍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生命体征平稳，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肌力、肌张力、腱反射均低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1916280"/>
            <a:ext cx="770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软瘫期康复护理（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周内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良肢位摆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被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主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203640" y="836640"/>
            <a:ext cx="5689440" cy="1798560"/>
          </a:xfrm>
          <a:prstGeom prst="wedgeRectCallout">
            <a:avLst>
              <a:gd name="adj1" fmla="val -48046"/>
              <a:gd name="adj2" fmla="val 86273"/>
            </a:avLst>
          </a:prstGeom>
          <a:solidFill>
            <a:srgbClr val="fdf9c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防止或对抗痉挛模式的出现，保护肩关节防止半脱位，防止骨盆后倾、髋关节外展外旋及早期诱发分离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995640" y="1125360"/>
            <a:ext cx="4897440" cy="3816360"/>
          </a:xfrm>
          <a:prstGeom prst="wedgeRectCallout">
            <a:avLst>
              <a:gd name="adj1" fmla="val -55606"/>
              <a:gd name="adj2" fmla="val 28995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从健侧到患侧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运动顺序应从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大到小关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循序渐进动作要轻柔缓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肩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旋、外展和屈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肘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伸展，腕和手指伸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展和伸展，膝关节伸展，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背屈和外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995640" y="2924280"/>
            <a:ext cx="4897440" cy="3241440"/>
          </a:xfrm>
          <a:prstGeom prst="wedgeRectCallout">
            <a:avLst>
              <a:gd name="adj1" fmla="val -56027"/>
              <a:gd name="adj2" fmla="val 11018"/>
            </a:avLst>
          </a:prstGeom>
          <a:solidFill>
            <a:srgbClr val="c7fdd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健侧翻身运动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患侧翻身训练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健侧翻身运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患侧翻身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动态桥式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双侧桥式运动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单桥式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900000" y="184464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案例</a:t>
            </a: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6-1 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临床诊断为“右侧基底节区脑梗死”。发病以来无头痛、恶心、呕吐、意识障碍及二便障碍。采用相应康复训练与治疗后症状进一步好转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华文新魏"/>
                <a:ea typeface="华文新魏"/>
              </a:rPr>
              <a:t>问题与思考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①患者被动训练的项目有哪些？②康复训练时的注意事项有哪些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偏瘫患者典型的痉挛模式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为肩下沉后缩、肘关节屈曲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前臂旋前、腕关节掌屈、手指屈曲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下肢为外旋，髋膝关节伸直、足下垂内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0675-71D4-4C78-AAB0-A18778C6FAB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71552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痉挛期康复护理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抗痉挛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卧位抗痉挛、被动活动肩关节和肩胛带、下肢的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耐力训练、床边坐起训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484360" y="836640"/>
            <a:ext cx="5472360" cy="1728720"/>
          </a:xfrm>
          <a:prstGeom prst="wedgeRectCallout">
            <a:avLst>
              <a:gd name="adj1" fmla="val -43152"/>
              <a:gd name="adj2" fmla="val 105462"/>
            </a:avLst>
          </a:prstGeom>
          <a:solidFill>
            <a:srgbClr val="fbffd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采用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上肢上举，使患侧肩胛骨向前，患肘伸直。针对下肢可采用仰卧位，双腿屈曲，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抱住双膝，将头抬起，轻轻前后摆动使下肢更加屈曲。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492360" y="1628640"/>
            <a:ext cx="4464360" cy="1152720"/>
          </a:xfrm>
          <a:prstGeom prst="wedgeRectCallout">
            <a:avLst>
              <a:gd name="adj1" fmla="val -34425"/>
              <a:gd name="adj2" fmla="val 115013"/>
            </a:avLst>
          </a:prstGeom>
          <a:solidFill>
            <a:srgbClr val="9cfed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仰卧，以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用健手带动患手上举上肢，肘关节尽量伸直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95640" y="2349360"/>
            <a:ext cx="3961080" cy="1295640"/>
          </a:xfrm>
          <a:prstGeom prst="wedgeRectCallout">
            <a:avLst>
              <a:gd name="adj1" fmla="val -68115"/>
              <a:gd name="adj2" fmla="val 93504"/>
            </a:avLst>
          </a:prstGeom>
          <a:solidFill>
            <a:srgbClr val="97d9f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髋、屈膝训练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踝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下肢内收、外展控制训练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995640" y="3284640"/>
            <a:ext cx="3961080" cy="1800000"/>
          </a:xfrm>
          <a:prstGeom prst="wedgeRectCallout">
            <a:avLst>
              <a:gd name="adj1" fmla="val -76972"/>
              <a:gd name="adj2" fmla="val 80245"/>
            </a:avLst>
          </a:prstGeom>
          <a:solidFill>
            <a:srgbClr val="f7d48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开始坐起时可能发生体位性低血压首先进行坐位耐力训练。坐起角度可先取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坚持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后，逐步过渡到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6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直至最后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90°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4932360" y="3789360"/>
            <a:ext cx="3960720" cy="2232000"/>
          </a:xfrm>
          <a:prstGeom prst="wedgeRectCallout">
            <a:avLst>
              <a:gd name="adj1" fmla="val -59620"/>
              <a:gd name="adj2" fmla="val 37412"/>
            </a:avLst>
          </a:prstGeom>
          <a:solidFill>
            <a:srgbClr val="f9bdf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先侧移至床边，仰卧位，从患侧坐起时，将患腿置于床边外膝关节屈曲，头向上抬，躯干向患侧旋转，健手横过身体，在患侧用手推床支撑身体至坐位，同时摆动健腿下床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7C99-8FDC-4374-8595-B71FF219086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恢复期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衡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坐位平衡、立位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步行前准备、扶持步行、复杂步态训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上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控制能力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臂、肘、腕、手的训练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2484360" y="1484280"/>
            <a:ext cx="2232000" cy="1081080"/>
          </a:xfrm>
          <a:prstGeom prst="wedgeRectCallout">
            <a:avLst>
              <a:gd name="adj1" fmla="val -47370"/>
              <a:gd name="adj2" fmla="val 101393"/>
            </a:avLst>
          </a:prstGeom>
          <a:solidFill>
            <a:srgbClr val="fcff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左右平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后平衡训练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716360" y="1484280"/>
            <a:ext cx="2303640" cy="1081080"/>
          </a:xfrm>
          <a:prstGeom prst="wedgeRectCallout">
            <a:avLst>
              <a:gd name="adj1" fmla="val -69365"/>
              <a:gd name="adj2" fmla="val 108148"/>
            </a:avLst>
          </a:prstGeom>
          <a:solidFill>
            <a:srgbClr val="edfdb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起立训练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站位平衡训练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916360" y="2565360"/>
            <a:ext cx="4392360" cy="1368360"/>
          </a:xfrm>
          <a:prstGeom prst="wedgeRectCallout">
            <a:avLst>
              <a:gd name="adj1" fmla="val -46856"/>
              <a:gd name="adj2" fmla="val 72851"/>
            </a:avLst>
          </a:prstGeom>
          <a:solidFill>
            <a:srgbClr val="e5fcb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先扶持站立位练习，再进行患肢前后摆动、踏步、屈膝、伸髋、患肢负重双腿交替前后迈步及患肢平衡活动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3995640" y="2060640"/>
            <a:ext cx="4608720" cy="1873080"/>
          </a:xfrm>
          <a:prstGeom prst="wedgeRectCallout">
            <a:avLst>
              <a:gd name="adj1" fmla="val -46175"/>
              <a:gd name="adj2" fmla="val 67458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人员站在偏瘫侧，一手握住患手，掌心向前；另一手从患侧腋下穿出置于胸前，手背靠在胸前处，与患者一起缓慢向前步行，然后扶杖步行到徒手步行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5724360" y="2492280"/>
            <a:ext cx="2880000" cy="1513080"/>
          </a:xfrm>
          <a:prstGeom prst="wedgeRectCallout">
            <a:avLst>
              <a:gd name="adj1" fmla="val -38587"/>
              <a:gd name="adj2" fmla="val 62171"/>
            </a:avLst>
          </a:prstGeom>
          <a:solidFill>
            <a:srgbClr val="baeef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抬腿步、走直线、绕圈走、跨越障碍训练步行稳定性和协调性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16360" y="3933720"/>
            <a:ext cx="3166920" cy="649440"/>
          </a:xfrm>
          <a:prstGeom prst="wedgeRectCallout">
            <a:avLst>
              <a:gd name="adj1" fmla="val -44037"/>
              <a:gd name="adj2" fmla="val 89365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健腿先上、患腿先下原则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5435640" y="3789360"/>
            <a:ext cx="3168720" cy="1800360"/>
          </a:xfrm>
          <a:prstGeom prst="wedgeRectCallout">
            <a:avLst>
              <a:gd name="adj1" fmla="val -60171"/>
              <a:gd name="adj2" fmla="val 61990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臂的旋前、旋后训练②肘的控制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腕指伸展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手的抓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52940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02EB-01A8-4B3B-BDF7-BCC21D993C4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15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言语障碍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高患者残存的言语功能，补充多种其他交流途径，改善实际交流能力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0246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C0C9-17B4-48CA-B27C-2CA34C3C774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8560" y="2142720"/>
            <a:ext cx="6769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摄食和吞咽障碍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因吞咽障碍导致的误吸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养不良等并发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理和情感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列举脑卒中发病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描述脑卒中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728c"/>
                </a:solidFill>
                <a:latin typeface="楷体"/>
                <a:ea typeface="楷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解释脑卒中发病的危险因素及预防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比较脑卒中运动障碍不同时期康复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334e"/>
                </a:solidFill>
                <a:latin typeface="楷体"/>
                <a:ea typeface="楷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评估脑卒中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0B9E-E874-4725-9DA2-F5FFA1ECC8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4560" y="549000"/>
            <a:ext cx="702324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1518-CCBB-48A5-BB7C-869C0940B33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常生活活动能力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1908000" y="2637000"/>
            <a:ext cx="2449800" cy="3457440"/>
          </a:xfrm>
          <a:prstGeom prst="rightArrowCallout">
            <a:avLst>
              <a:gd name="adj1" fmla="val 35286"/>
              <a:gd name="adj2" fmla="val 35283"/>
              <a:gd name="adj3" fmla="val 16667"/>
              <a:gd name="adj4" fmla="val 66667"/>
            </a:avLst>
          </a:prstGeom>
          <a:solidFill>
            <a:srgbClr val="f7ffa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床椅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穿脱衣裤鞋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洗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716360" y="4221000"/>
            <a:ext cx="3600720" cy="520560"/>
          </a:xfrm>
          <a:prstGeom prst="rect">
            <a:avLst/>
          </a:prstGeom>
          <a:solidFill>
            <a:srgbClr val="baeef4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早期干预，持之以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"/>
          <p:cNvSpPr/>
          <p:nvPr/>
        </p:nvSpPr>
        <p:spPr>
          <a:xfrm>
            <a:off x="1042920" y="1557360"/>
            <a:ext cx="763272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Calibri"/>
                <a:ea typeface="楷体"/>
              </a:rPr>
              <a:t>知识链接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楷体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  <a:ea typeface="楷体"/>
              </a:rPr>
              <a:t>脑卒中康复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年来对脑的研究中脑功能重建的方法不断涌现。脑功能重建的方法是根据脑的可塑性理论，利用神经生理学、神经发育学、分子生物学、细胞生物学、神经心理学、神经电磁学等新技术，促进脑功能重建。目前临床上应用的技术有运动想象疗法、强制性运动疗法、双侧训练、减重平板步行训练、主动音乐疗法、主动性肌电生物反馈、功能性电刺激和重复经颅磁刺激等。另外，由于信息技术的应用。全自动康复机器人、虚拟现实技术，精神认知训练也用于脑损伤患者的康复治疗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54262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430D-BAB8-474D-A641-35E5BAD5D4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446400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确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耐心解释各类药物的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良反应及使用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院后积极锻炼并定期随诊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用药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060640"/>
            <a:ext cx="34146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6588000" y="626580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BD52-757D-4E65-A89C-BE4CBAF580E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2636640"/>
            <a:ext cx="4608360" cy="321444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宣传板、宣传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健康教育手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成良好的生活习惯，合理饮食、控制体重、戒烟禁酒睡眠充足，劳逸结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计划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364000" y="2205000"/>
            <a:ext cx="3311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17880" y="549000"/>
            <a:ext cx="542592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50FF-448A-466C-9281-EEAE2CAFCC9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32108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位摆放及肢体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会患者及家属自行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发挥潜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示范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7640" y="47628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65C4-BE9E-4ACC-83E8-1635F18C61E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14324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在晨、晚间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巡视病房；护理操作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524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视时间等向患者及亲属讲解脑卒中相关知识</a:t>
            </a: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随机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590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BB2F-4305-434C-8D3E-B3DD74A0D01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2852640"/>
            <a:ext cx="410508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调整不良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良好的兴趣爱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棋、写字、晨晚间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坚持不懈至关重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出院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19640" y="2205000"/>
            <a:ext cx="34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94D5-33F1-4673-A8FB-68F91B8F7A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病因   高血压、心脏病、糖尿病、高血脂、酗酒、短暂性脑缺血发作及遗传等是脑卒中发病的最重要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主要功能障碍   偏瘫是脑卒中主要的运动功能障碍，是致残的重要因素，由于脑卒中患者存在运动功能、认知功能、感觉功能、言语功能等多种功能障碍，所以导致其衣、食、住、行、卫生、洗浴等日常生活活动能力低下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804960" y="1762200"/>
            <a:ext cx="6912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评估   可从运动功能、感觉功能、言语功能、肌力等方面进行单项评定，也可根据临床症状、日常生活能力进行综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措施   根据病程发展不同时期进行主被动训练指导，言语训练指导、摄食和吞咽训练指导、认知训练指导、日常生活活动能力训练指导及心理情感疏导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2"/>
          <p:cNvSpPr/>
          <p:nvPr/>
        </p:nvSpPr>
        <p:spPr>
          <a:xfrm>
            <a:off x="971640" y="2133720"/>
            <a:ext cx="72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指导   用药指导、计划性指导、随机指导、示范性指导及出院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7CE8-816D-46FB-9041-5B23954221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987A-BFA1-4D78-9547-93585674E59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前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203640" y="1413000"/>
            <a:ext cx="2879640" cy="1152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332000" y="3141720"/>
            <a:ext cx="19429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发病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780000" y="3141720"/>
            <a:ext cx="187308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致残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516720" y="3141720"/>
            <a:ext cx="1871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复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332000" y="4149720"/>
            <a:ext cx="251928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康复训练与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 flipV="1">
            <a:off x="4140360" y="429264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780000" y="5084640"/>
            <a:ext cx="2016000" cy="6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致残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华文新魏"/>
              </a:rPr>
              <a:t>↓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5867280" y="3500280"/>
            <a:ext cx="649440" cy="2305080"/>
          </a:xfrm>
          <a:custGeom>
            <a:avLst/>
            <a:gdLst>
              <a:gd name="textAreaLeft" fmla="*/ 86760 w 649440"/>
              <a:gd name="textAreaRight" fmla="*/ 562680 w 64944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ca06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4643280" y="2565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db075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5867280" y="2349360"/>
            <a:ext cx="792360" cy="5749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2916360" y="2349360"/>
            <a:ext cx="503280" cy="648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F52D-245E-4946-9968-EAE61446073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apoplexy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又称脑血管意外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vascular accid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VA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定义：是指各种原因引起的急性脑血管循环障碍导致的持续性（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）、局限性或弥漫性脑功能缺损的一组疾病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血性（血栓形成性脑梗死，脑栓塞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血性（脑实质内出血，蛛网膜下腔出血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195280" y="764640"/>
            <a:ext cx="485748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9923-128B-42B3-821B-DD7D5B51EDA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2688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1557360"/>
            <a:ext cx="2952720" cy="1008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管壁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03640" y="3141720"/>
            <a:ext cx="2881080" cy="1584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3132000" y="5229360"/>
            <a:ext cx="309564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液成分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3357720"/>
            <a:ext cx="2592360" cy="129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443640" y="3429000"/>
            <a:ext cx="2700360" cy="107964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流动力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4500720" y="263700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012000" y="3860640"/>
            <a:ext cx="433080" cy="21600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2771640" y="3860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4500720" y="4797360"/>
            <a:ext cx="142560" cy="360360"/>
          </a:xfrm>
          <a:prstGeom prst="upArrow">
            <a:avLst>
              <a:gd name="adj1" fmla="val 50000"/>
              <a:gd name="adj2" fmla="val 631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96D1-D0FC-4D43-9D40-0F53421F3E6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6800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348000" y="1916280"/>
            <a:ext cx="2303640" cy="2089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危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179280" y="2349360"/>
            <a:ext cx="2521080" cy="1150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6300720" y="2421000"/>
            <a:ext cx="262728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不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5651640" y="2852640"/>
            <a:ext cx="649080" cy="217440"/>
          </a:xfrm>
          <a:prstGeom prst="leftArrow">
            <a:avLst>
              <a:gd name="adj1" fmla="val 50000"/>
              <a:gd name="adj2" fmla="val 746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2700360" y="278136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0360" y="4221000"/>
            <a:ext cx="2808360" cy="17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年龄、性别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种族和家族遗传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95280" y="4149720"/>
            <a:ext cx="2952720" cy="194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高血压、心脏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糖尿病、高脂血症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血黏度增高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吸烟、酗酒、饮食因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140328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752472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B2E9-8EA9-44E8-9BC7-C99D84A0E8C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50920" y="2852640"/>
            <a:ext cx="2089080" cy="1584360"/>
          </a:xfrm>
          <a:prstGeom prst="rect">
            <a:avLst/>
          </a:prstGeom>
          <a:solidFill>
            <a:srgbClr val="ffcc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起病较急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843280" y="1844640"/>
            <a:ext cx="626580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在安静或睡眠中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偏瘫、偏身感觉障碍、失语、共济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发生基底动脑血栓或大面积脑梗死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有意识障碍，甚至危及生命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843280" y="4437000"/>
            <a:ext cx="52578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多在情绪激动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兴奋、用力或活动过程中突然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后大多患者血压明显升高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384280" y="2637000"/>
            <a:ext cx="387360" cy="2879640"/>
          </a:xfrm>
          <a:custGeom>
            <a:avLst/>
            <a:gdLst>
              <a:gd name="textAreaLeft" fmla="*/ 247680 w 387360"/>
              <a:gd name="textAreaRight" fmla="*/ 387720 w 387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3:54Z</dcterms:modified>
  <cp:revision>8</cp:revision>
  <dc:subject/>
  <dc:title>第一章 儿科疾病的护理</dc:title>
</cp:coreProperties>
</file>